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4240" y="733320"/>
            <a:ext cx="4889520" cy="36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15D5-BAB3-40A4-B83C-AA5ACA00A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85680" y="73332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642920"/>
            <a:ext cx="5029200" cy="43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Traditional architecture, not like PowerVR or Talism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resolution in the monster configuration is 2048x1536 with true color and 32-bit IEEE floating point depth buff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9A1A-3549-49D1-ACDA-513C13DF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1957-77DF-4707-BD00-2C92F82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780-D3E6-4F2B-BA73-84F89350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57B1-B09A-4F0C-BEF1-B5225C97A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DC3-6E26-4A12-BA05-DF16E9D8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67C-2690-441A-8162-0205FF8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903-97BB-4A0A-BF6A-AA7C63D5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0412-B56B-4CB3-B414-5CE323BA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C76-C452-4F0E-8908-DB18F23DF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515-D08F-4B76-8F20-FEAF1A78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49F0-35EC-49D2-BF77-3F2FDB90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65DB-EC77-46DF-B154-ADF4D0A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3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Bitboys 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1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package" Target="../embeddings/oleObject1.docx"/><Relationship Id="rId4" Type="http://schemas.openxmlformats.org/officeDocument/2006/relationships/image" Target="../media/image7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Glaze3D</a:t>
            </a:r>
            <a:r>
              <a:rPr b="0" lang="en-US" sz="4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tri Nordl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ief Archit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tboys O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pnord@bitboys.f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99C9-8D1E-430E-A129-D210D20009E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xel pipel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05120" y="1523880"/>
          <a:ext cx="5448240" cy="4483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5120" y="1523880"/>
                    <a:ext cx="544824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18B-8AAC-4BFB-97B6-1F106A52BA1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Why embedded DRAM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aphics accelerator needs GB/s of memory bandwidth, to render at 600 MPIX/s at true color and 32-bit Z, 7.2 GB/s of memory bandwidth is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memory can no longer provide enough bandwidth for future graphics acceler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t-efficient - less chips on bo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d power consum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size - we needed exactly 9 MB (= 72 M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stomized organization in terms of bus width, ba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476-D8C3-4E9B-AB0C-BE623153DE4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52280"/>
            <a:ext cx="83059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 Black"/>
              </a:rPr>
              <a:t>Cell-concepts: Trench versus s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946240" y="941400"/>
            <a:ext cx="1227240" cy="317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383000" y="1852560"/>
          <a:ext cx="3141720" cy="4233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83000" y="1852560"/>
                    <a:ext cx="3141720" cy="42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2438280" y="3657600"/>
            <a:ext cx="4953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37052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0120" y="36576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3657600"/>
            <a:ext cx="5335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520" y="1219320"/>
            <a:ext cx="1915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etitor’s</a:t>
            </a: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 H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block stacked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hard to add multi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42320" y="1219320"/>
            <a:ext cx="460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nfineon’s trench capacitor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ideally suited for adding multi-level metalliz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438280" y="266688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2760" y="2514600"/>
            <a:ext cx="11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 wi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L cont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362320"/>
            <a:ext cx="4953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76600" y="289548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bit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6960" y="2209680"/>
            <a:ext cx="79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meta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620120" y="3048120"/>
            <a:ext cx="514080" cy="2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1640" y="4495680"/>
            <a:ext cx="97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ren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capaci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0800" y="4724280"/>
            <a:ext cx="174636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11160" y="350532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Si su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1600200"/>
            <a:ext cx="50976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724280"/>
            <a:ext cx="3505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The trench technology combined with CMP (chemical mechanical polishing) techniques gives the advantage of being able to deposit the logic metallization onto a globally planar surfa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Infineon%20Logo4C%20tiff" descr=""/>
          <p:cNvPicPr/>
          <p:nvPr/>
        </p:nvPicPr>
        <p:blipFill>
          <a:blip r:embed="rId5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5EC1-6B47-48A5-B806-1DFFC46A7B7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mbedded DRA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2 Mbits (9 MB) of eD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0 MHz core/memory cl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9.6 GB/s memory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12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vided into four 18 Mbit modules of 3 banks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s framebuffer and Z buffer - enough for 1024x768x32 b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de internal buses, need lots of metal layer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2362320"/>
          <a:ext cx="3809880" cy="292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362320"/>
                    <a:ext cx="3809880" cy="29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403B-D140-4946-A2C3-8F63877868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ultichip configuration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stom bus interface built into Glaze3D</a:t>
            </a:r>
            <a:r>
              <a:rPr b="0" lang="en-US" sz="18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a cost effective multi-chip sol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or is a geometry process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onster configuration is capable of 2400 MPIX/s, 10M triangles/s sustained -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8 gigatexels/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rget markets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C desktop high-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cade system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5800" y="2668680"/>
          <a:ext cx="3809880" cy="27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8680"/>
                    <a:ext cx="3809880" cy="27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E06-9F88-40FD-8BDE-C45C5D7DB35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iled rendering order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 linear framebuffer in video memory but primitives rendered as tiles instead of scanl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is divided into tiles (16x16, 32x32, 64x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 is not sufficient - trashes texture cach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 four chip configuration, one chip renders 1/4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t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rendering chip ignores the primitive if it doesn’t fall into one of the tiles this chip ren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amebuffer split between the rendering chips - monster configuration has a 36 MB embedded F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824-8C8B-4A56-BB31-C84D10A50DD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71080" y="1828800"/>
            <a:ext cx="170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3280" y="1828800"/>
            <a:ext cx="997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9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4584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74720" y="1828800"/>
            <a:ext cx="1166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C10D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81520" y="2514600"/>
            <a:ext cx="125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featur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0440" y="2971800"/>
            <a:ext cx="161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1Mb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0800" y="3429000"/>
            <a:ext cx="179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aw gate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4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81480" y="3429000"/>
            <a:ext cx="15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90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038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20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64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260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7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3224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8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1080" y="2508120"/>
            <a:ext cx="829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15 µ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01080" y="29718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0.3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81880" y="3809880"/>
            <a:ext cx="1649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ax.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038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3260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25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24760" y="3429000"/>
            <a:ext cx="180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~115 Kgates/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201440" y="380988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3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9360" y="426708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us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03800" y="42670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512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3296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01440" y="426708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1024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79720" y="4876920"/>
            <a:ext cx="1730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ax. band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038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3260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2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01080" y="4876920"/>
            <a:ext cx="118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37 GByte/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0440" y="5334120"/>
            <a:ext cx="1614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memory / logic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on 150 mm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0344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0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2.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19640" y="5334120"/>
            <a:ext cx="9777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4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5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01080" y="5334120"/>
            <a:ext cx="11682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180 Mbit</a:t>
            </a:r>
            <a:br>
              <a:rPr sz="1800"/>
            </a:br>
            <a:r>
              <a:rPr b="1" lang="de-DE" sz="1800" spc="-1" strike="noStrike">
                <a:solidFill>
                  <a:srgbClr val="ffff00"/>
                </a:solidFill>
                <a:latin typeface="Arial"/>
              </a:rPr>
              <a:t>6.4 M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8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Key parameters for next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Infineon%20Logo4C%20tiff" descr=""/>
          <p:cNvPicPr/>
          <p:nvPr/>
        </p:nvPicPr>
        <p:blipFill>
          <a:blip r:embed="rId2"/>
          <a:stretch/>
        </p:blipFill>
        <p:spPr>
          <a:xfrm>
            <a:off x="8305920" y="6489720"/>
            <a:ext cx="838080" cy="36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C6D4-7231-4655-AE09-39BE8CC655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utur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ump more and more triangles through the pipe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tical: CPU - 3D-hardware interface, dri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ometry processors, advanced geometry proces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pixels and tex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ect 8 gigatexels/s in 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8 GB/s of memory bandwidth - embedded DRAM is the only solu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features per pix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er texture filtering (anisotropic for 2D on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mability (procedural textu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listic materials and surface proper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A119-F561-4C33-8EE2-2EFF0B5F979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ank you!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458-2B7C-4547-870C-069BE422C478}" type="slidenum">
              <a:t>18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aze3D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a new consumer-level 2D/3D-graphics accelerator c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lrate: 1200 million texels / seco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ed and developed by Bitboys Oy, a Finnish 3D-graphics hardware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s Infineon Technologies’ 0.20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eDRAM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 MB of embedded framebuffer memory, 128 MB (max) of external video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2CD7-DC5E-4159-ACE2-21FCB96FBE0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sign goa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itional, proven rendering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’99, Microsoft Windows, Direct3D and OpenGL compat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-chip support, two- and four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additional geometry processor, also in multi-chip configu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kes full advantage of embedded D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mall and efficient rendering core required, embedded DRAM in Glaze3D takes most of the available sil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BAA-D99E-446F-99F2-5987A55388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d-pixel pipeline @ 150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00 million pixels / second (dual textur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200 million texels / 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5 million fully featured triangles / second (sustain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ycle-accurate, bit-accurate simulator together with in-house developed PCIBuilder allows performance tuning with real-world applications (Quake III Arena, Viewper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BA2-C194-46B7-9284-AE5407B8689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erformanc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ure cache: 16 KB cache for even mipmap levels and surface textures, 8 KB cache for odd mipmap levels and lightmaps. Both caches two-way set associa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ock coverage issue - 4-pixel horizontal blocks, expect 90% coverage with average-size triang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ke III arena - 200 FPS with all features on @ 800x600x3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00 MPIX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50.000 drawn triangles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5 MB of textures / frame, 670 MB/s of textu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complexity of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81D2-4BB1-41D4-94C9-275CCB4BE0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eatu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 simultaneous textures with trilinear filte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XTC texture compre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ll-scene, order independent anti-alia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vironment bump mapp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DI+ fe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ltiple scaled transparent video overlay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gital flat-panel and TV-out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DF3-321B-4B79-8A81-5560DF0E2D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Glaze3D</a:t>
            </a:r>
            <a:r>
              <a:rPr b="0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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hip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04 pin BG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5M logic g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30 m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e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l SDR SDRAM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pth and/or color buffer stored here in higher resol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x 128 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4- or 128-bit 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CI and 2X/4X AGP interfaces: AGP interface supports direct AGP textu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72E-1CB2-437D-AD9C-0ECE6347FC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10280" y="30492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088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laze3D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371600" y="1219320"/>
          <a:ext cx="6515280" cy="4865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219320"/>
                    <a:ext cx="6515280" cy="48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F9DE-61EF-424F-92FC-C1A2BB87EA6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riangle setup engin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362320" y="1676520"/>
          <a:ext cx="4419360" cy="429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676520"/>
                    <a:ext cx="441936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455D-5908-4766-9940-6ABFB15D3F3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25T15:57:30Z</dcterms:created>
  <dc:creator>Petri Nordlund</dc:creator>
  <dc:description/>
  <dc:language>en-US</dc:language>
  <cp:lastModifiedBy>Petri Nordlund</cp:lastModifiedBy>
  <cp:lastPrinted>1999-05-31T07:55:05Z</cp:lastPrinted>
  <dcterms:modified xsi:type="dcterms:W3CDTF">1999-07-11T14:59:00Z</dcterms:modified>
  <cp:revision>214</cp:revision>
  <dc:subject/>
  <dc:title>No Slide Title</dc:title>
</cp:coreProperties>
</file>